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BF2-CDB1-453E-ABBD-EAB1477C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25A5-7010-4FF3-8A7D-45B93EB9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98A-6521-4327-9995-D32CFEC7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BB8-6D73-4C15-BDA3-60810109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4DB4-3C06-431C-937A-99ED9610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C48-676A-45E4-AD8B-9045565C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468C-742C-41C3-8217-2F695A71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C637-27E5-4DD1-A910-E84A2CE9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85B2-9767-4100-97A7-A9256964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B5A-B9FF-4244-8143-D51258BB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ED51-42DB-4430-9406-8FDA183D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85F-B544-4980-9F75-AE7D09CC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494C-8574-4CA9-981D-BC855EAE8D7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61AF-44EF-40A2-B924-78685471F90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فصل الثا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فعالية التقارير المال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Andalus"/>
              </a:rPr>
              <a:t>كموصل جيد للمعلوم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781200" y="2809800"/>
          <a:ext cx="7772400" cy="839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2809800"/>
                    <a:ext cx="7772400" cy="839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6224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85D-2895-487B-A477-03DEF38EE88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11280" y="2311560"/>
          <a:ext cx="8353440" cy="838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311560"/>
                    <a:ext cx="8353440" cy="83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0018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090-F6D4-4ED7-B2D8-1DDD1954273E}" type="slidenum">
              <a:t>11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1760" y="2434320"/>
            <a:ext cx="7534800" cy="30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الشمولية (الحد الأدنى من المعلومات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اعتماد المستفيدين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قراءة كل جزء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مدى فهم محتويا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81000"/>
            <a:ext cx="7705440" cy="1079640"/>
          </a:xfrm>
          <a:prstGeom prst="bevel">
            <a:avLst>
              <a:gd name="adj" fmla="val 2644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هي مؤشرات فعالية التقارير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55D-C1B2-478C-8867-EEF302FAED30}" type="slidenum">
              <a:t>2</a:t>
            </a:fld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4a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 (العرض والافصا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de7b1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ما هو الافصاح؟؟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معلومات المهمة للمستفيدين من التقارير المالية بطريقة تساعد على التنبؤ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أو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عرض القوائم المالية بكل وضوح طبقا للمبادئ المحاسبية المتعارف عل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D5B-D1EB-4699-91A8-349F00F55A40}" type="slidenum">
              <a:t>3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1069920"/>
            <a:ext cx="8153280" cy="9907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7632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همية العرض والإفصا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673360"/>
            <a:ext cx="8153280" cy="32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يحقق عدد من المزاي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مداد المستفيدين بالمعلومات عن المنشأة أو المشروع وبالتالي ترشيد عملية اتخاذ القر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خدام الموارد الاقتصادية المتاحة بكفاءة وفعالية، بمعنى آخر يساعد على تخصيص وإعادة تخصيص الموارد بين المنشآت ال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52E0-3EA0-4E6D-B004-BE5F3C34F472}" type="slidenum">
              <a:t>4</a:t>
            </a:fld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736200"/>
            <a:ext cx="7772760" cy="835200"/>
          </a:xfrm>
          <a:prstGeom prst="rect">
            <a:avLst/>
          </a:prstGeom>
          <a:solidFill>
            <a:srgbClr val="fde7b1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افصا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37640" y="2185200"/>
            <a:ext cx="2182320" cy="96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48680" y="2257920"/>
            <a:ext cx="1960920" cy="894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10360" y="3971880"/>
            <a:ext cx="2514600" cy="212112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قتص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سيا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قانونية (قوانين الشركات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3997440"/>
            <a:ext cx="2514600" cy="209556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550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ملائمة المعلومات لاتخاذ القرارات (خصائص المعلومات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2600" y="4016520"/>
            <a:ext cx="2590560" cy="2076480"/>
          </a:xfrm>
          <a:prstGeom prst="rect">
            <a:avLst/>
          </a:prstGeom>
          <a:solidFill>
            <a:srgbClr val="fef0ce"/>
          </a:solidFill>
          <a:ln w="3816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جم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عدد المساهم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داول الاس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601"/>
              </a:spcBef>
              <a:buClr>
                <a:srgbClr val="66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راجع الخارج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43480" y="2133720"/>
            <a:ext cx="228600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وامل تتعل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بالمعلوم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630864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238880" y="3206880"/>
            <a:ext cx="646200" cy="726840"/>
          </a:xfrm>
          <a:prstGeom prst="downArrow">
            <a:avLst>
              <a:gd name="adj1" fmla="val 50000"/>
              <a:gd name="adj2" fmla="val 2812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93720" y="3213000"/>
            <a:ext cx="601920" cy="792360"/>
          </a:xfrm>
          <a:prstGeom prst="downArrow">
            <a:avLst>
              <a:gd name="adj1" fmla="val 50000"/>
              <a:gd name="adj2" fmla="val 32910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02080" y="3213000"/>
            <a:ext cx="601560" cy="792360"/>
          </a:xfrm>
          <a:prstGeom prst="downArrow">
            <a:avLst>
              <a:gd name="adj1" fmla="val 50000"/>
              <a:gd name="adj2" fmla="val 32929"/>
            </a:avLst>
          </a:prstGeom>
          <a:solidFill>
            <a:srgbClr val="4686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37E-8E89-4473-A493-FF65B621634D}" type="slidenum">
              <a:t>5</a:t>
            </a:fld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1920" y="1819440"/>
          <a:ext cx="9304200" cy="83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" y="1819440"/>
                    <a:ext cx="9304200" cy="83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019920" y="63849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5228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553-7389-4C9A-B414-A1A2C1D6EDBA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6560" y="2860560"/>
          <a:ext cx="8498160" cy="805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860560"/>
                    <a:ext cx="8498160" cy="805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3496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3A10-2082-489E-89D8-D519DC785392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68360" y="2300400"/>
          <a:ext cx="8424720" cy="84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00400"/>
                    <a:ext cx="8424720" cy="84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BC46-0585-4458-9797-C1B444D18B4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89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68360" y="2133720"/>
          <a:ext cx="8136000" cy="835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133720"/>
                    <a:ext cx="8136000" cy="83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791320" y="62485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2286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Andalus"/>
              </a:rPr>
              <a:t>الفصل الثاني: </a:t>
            </a: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Andalus"/>
              </a:rPr>
              <a:t>فعالية التقارير المالية كموصل جيد للمعلوم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fef0ce"/>
          </a:solidFill>
          <a:ln w="57240">
            <a:solidFill>
              <a:srgbClr val="66003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طرق الافصاح ومتطلباته والاهمية النسب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5937-C50B-4918-9838-EE5C8920C1B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3:05:20Z</dcterms:modified>
  <cp:revision>28</cp:revision>
  <dc:subject/>
  <dc:title>التحليل المالي والائتماني</dc:title>
</cp:coreProperties>
</file>